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jpeg" ContentType="image/jpeg"/>
  <Override PartName="/ppt/media/image4.wmf" ContentType="image/x-wmf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93F-2FF2-4466-B941-D1329925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869-79FB-429F-B327-FCA000E1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860-DF44-4115-BF49-D505D8AA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011-9153-44B8-BEB0-127AAF52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A2B7-C7FD-48B1-BB36-DC8C8552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8703-856E-4696-91F8-4408F542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B422-C379-4A39-9556-89F38756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1F3B-BB30-4EC1-999D-F7FD0F39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2F44-DF11-4BD3-90ED-8D872938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B3EE-9FC9-4223-B3C2-0A41B295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FB44-B5E0-4B76-A420-31594D5D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525-CC46-4C1A-A318-563237F0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DB12-0314-448E-A4F6-F45A1C8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3204-AF7E-4364-9ADB-C0E7543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1186-AAFA-4B46-8BEC-A43D5841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71BF-0EBE-4625-A4B8-E690F192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8D28-077B-48DF-87A2-76A4E02C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75B-F67B-42E0-A165-3733B0F7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50C-641A-4749-94AD-FF43D251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767-8F00-41A3-A19C-2A832A5A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BC8-F2D5-4F48-8135-9B2D0A6F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7B3-C190-4F4D-A6F3-5FA99844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3F8-960A-4446-A628-620642E0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ACF-8051-4854-A736-F6CBC06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C3AE-3A95-4D59-B1B4-7F8543128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2A9B-2132-4FB3-9CF4-938B7B4E7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allel Lines and Proportional Part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581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tion 7.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iangle Midsegment Theor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idsegment of a triangle is parallel to one side of the triangle, and its length is one-half the length of that sid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D and E are mid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 of AB and AC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DE || BC and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 = ½ B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3530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 ABC has vertices A(-2,2), B(2, 4) and C(4,-4).  DE is the midsegment of triangle ABC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coordinates of D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and 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midpt of A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(0,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1781280" cy="176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5"/>
          <p:cNvGraphicFramePr/>
          <p:nvPr/>
        </p:nvGraphicFramePr>
        <p:xfrm>
          <a:off x="6400800" y="4343400"/>
          <a:ext cx="196848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4343400"/>
                    <a:ext cx="19684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 midpt of A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(1, -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 2 - Verify BC || 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this by finding slop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ope of BC = -4 and slope of DE = -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 || 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 3 – Verify DE = ½ B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do this use the distance formula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 =               which simplifies to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 =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 = ½ B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209680" y="3200400"/>
          <a:ext cx="6098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6098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0" y="3276720"/>
          <a:ext cx="7491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3276720"/>
                    <a:ext cx="749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2209680" y="3809880"/>
          <a:ext cx="5842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809880"/>
                    <a:ext cx="584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rollaries of side splitter thm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If three or more parallel lines intersect two transversals, then they cut off the transversals proportion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3352680" cy="198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495680" y="3505320"/>
            <a:ext cx="3733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3352680" cy="1981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ree or more parallel lines cut off congruent segments on one transversal, then they cut off congruent segments on every transversa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4343400"/>
            <a:ext cx="3504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In the figure, Larch, Maple, and Nutthatch Streets are all parallel.  The figure shows the distance between city blocks.  Find x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44960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x and 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: AB = B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 + 4 = 6 – 2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=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rollary to say DE = E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y = 5/3 y +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56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ortional parts of triangle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 parallel transversals that intersect parallel lines can be extended to form similar triangles.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, the sides of the triangles are proportiona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Splitter Theorem 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riangle Proportionality Theor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 line is parallel to one side of a triangle and intersects the other two sides, it divides those two sides proportion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E || CD, the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12408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5"/>
          <p:cNvGraphicFramePr/>
          <p:nvPr/>
        </p:nvGraphicFramePr>
        <p:xfrm>
          <a:off x="1212840" y="4641840"/>
          <a:ext cx="133344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2840" y="4641840"/>
                    <a:ext cx="1333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||ED, BD = 8, DC = 4, and AE = 12.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E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 = 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876920" cy="19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5"/>
          <p:cNvGraphicFramePr/>
          <p:nvPr/>
        </p:nvGraphicFramePr>
        <p:xfrm>
          <a:off x="1295280" y="3733920"/>
          <a:ext cx="130824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733920"/>
                    <a:ext cx="13082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6"/>
          <p:cNvGraphicFramePr/>
          <p:nvPr/>
        </p:nvGraphicFramePr>
        <p:xfrm>
          <a:off x="1295280" y="4648320"/>
          <a:ext cx="106704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648320"/>
                    <a:ext cx="1067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Y|| VX, UV = 3, UW = 18, XW = 16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YX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X = 3.2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3657600" cy="335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5"/>
          <p:cNvGraphicFramePr/>
          <p:nvPr/>
        </p:nvGraphicFramePr>
        <p:xfrm>
          <a:off x="1295280" y="2666880"/>
          <a:ext cx="153684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666880"/>
                    <a:ext cx="1536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6"/>
          <p:cNvGraphicFramePr/>
          <p:nvPr/>
        </p:nvGraphicFramePr>
        <p:xfrm>
          <a:off x="1295280" y="3733920"/>
          <a:ext cx="118116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733920"/>
                    <a:ext cx="11811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erse of Side Splitt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 line intersects the other two sides and separates the sides into corresponding segments of proportional lengths,  then the line is parallel to the third sid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BE || C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12408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7"/>
          <p:cNvGraphicFramePr/>
          <p:nvPr/>
        </p:nvGraphicFramePr>
        <p:xfrm>
          <a:off x="1600200" y="4114800"/>
          <a:ext cx="133344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114800"/>
                    <a:ext cx="13334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e if GH || FE.  Justif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riangle DEF, DH = 18, and HE = 36, and DG = ½ GF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how GH || FE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 GF = x, then DG = ½ x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31240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5"/>
          <p:cNvGraphicFramePr/>
          <p:nvPr/>
        </p:nvGraphicFramePr>
        <p:xfrm>
          <a:off x="2362320" y="3733920"/>
          <a:ext cx="137160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33920"/>
                    <a:ext cx="1371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itu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2895480" y="1981080"/>
          <a:ext cx="12193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1219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7"/>
          <p:cNvGraphicFramePr/>
          <p:nvPr/>
        </p:nvGraphicFramePr>
        <p:xfrm>
          <a:off x="2666880" y="3581280"/>
          <a:ext cx="100332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581280"/>
                    <a:ext cx="1003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8"/>
          <p:cNvGraphicFramePr/>
          <p:nvPr/>
        </p:nvGraphicFramePr>
        <p:xfrm>
          <a:off x="2743200" y="5105520"/>
          <a:ext cx="7873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105520"/>
                    <a:ext cx="787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 the sides are proportional, then GH || F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35:39Z</dcterms:created>
  <dc:creator>bknott</dc:creator>
  <dc:description/>
  <dc:language>en-US</dc:language>
  <cp:lastModifiedBy>chmorgan</cp:lastModifiedBy>
  <dcterms:modified xsi:type="dcterms:W3CDTF">2014-01-10T14:16:16Z</dcterms:modified>
  <cp:revision>16</cp:revision>
  <dc:subject/>
  <dc:title>Parallel Lines and Proportional Par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71033</vt:lpwstr>
  </property>
</Properties>
</file>